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9BF2-00E9-4273-AC8B-66CEDAA33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B051-21A7-48EE-B14D-16A65B40F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363FA-C5A7-4DB2-8AB1-4F3B00188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CC82C-7416-417F-A84B-F40636436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8FA0-5D52-48A7-8416-7DC8999B7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03BED-05CB-48A0-A8DF-F87D0DD84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EF2D-049D-4BC1-AA3F-7DD97EAD7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FAA2-0339-47E0-AEBB-0388F3B94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86DF3-B65A-4C81-ADFD-7EDB3CAF3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0CDB-7ED0-45B5-831D-AA2BB02FC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2151-1B59-4870-A413-0B7C3D536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322A-CB41-49AC-B5FB-4E89D1B6C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FA24F-2926-4D52-804A-7CA1737BE4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2514600"/>
            <a:ext cx="6172200" cy="321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hapter 13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Section 5: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he Law of Sines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2120" y="366840"/>
            <a:ext cx="5410080" cy="847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In Lesson 13.1 you learned how to solve right triangles.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 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To solve a triangle with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Gothic"/>
              </a:rPr>
              <a:t>no right angle</a:t>
            </a: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, you need to know the measure of at least </a:t>
            </a:r>
            <a:r>
              <a:rPr b="0" lang="en-US" sz="4000" spc="-1" strike="noStrike">
                <a:solidFill>
                  <a:srgbClr val="ff0000"/>
                </a:solidFill>
                <a:latin typeface="Century Gothic"/>
              </a:rPr>
              <a:t>one side </a:t>
            </a: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and any </a:t>
            </a:r>
            <a:r>
              <a:rPr b="0" lang="en-US" sz="4000" spc="-1" strike="noStrike">
                <a:solidFill>
                  <a:srgbClr val="ff0000"/>
                </a:solidFill>
                <a:latin typeface="Century Gothic"/>
              </a:rPr>
              <a:t>two other parts </a:t>
            </a: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of the triangl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LAW OF SINES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380880" y="1600200"/>
            <a:ext cx="61722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The law of sines can be written in either of the following forms for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ABC with sides of length a, b, and 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2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Object 1"/>
              <p:cNvSpPr txBox="1"/>
              <p:nvPr/>
            </p:nvSpPr>
            <p:spPr>
              <a:xfrm>
                <a:off x="3276720" y="3505320"/>
                <a:ext cx="33192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A</m:t>
                        </m:r>
                      </m:num>
                      <m:den>
                        <m:r>
                          <m:t xml:space="preserve">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B</m:t>
                        </m:r>
                      </m:num>
                      <m:den>
                        <m:r>
                          <m:t xml:space="preserve">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nC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7" name="Rectangle 4"/>
          <p:cNvSpPr/>
          <p:nvPr/>
        </p:nvSpPr>
        <p:spPr>
          <a:xfrm>
            <a:off x="0" y="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Object 3"/>
              <p:cNvSpPr txBox="1"/>
              <p:nvPr/>
            </p:nvSpPr>
            <p:spPr>
              <a:xfrm>
                <a:off x="3352680" y="5486400"/>
                <a:ext cx="32860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A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Sin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9" name="Rectangle 8"/>
          <p:cNvSpPr/>
          <p:nvPr/>
        </p:nvSpPr>
        <p:spPr>
          <a:xfrm>
            <a:off x="4420800" y="4724280"/>
            <a:ext cx="69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" name="Group 5"/>
          <p:cNvGrpSpPr/>
          <p:nvPr/>
        </p:nvGrpSpPr>
        <p:grpSpPr>
          <a:xfrm>
            <a:off x="685800" y="4191120"/>
            <a:ext cx="2742840" cy="1752120"/>
            <a:chOff x="685800" y="4191120"/>
            <a:chExt cx="2742840" cy="1752120"/>
          </a:xfrm>
        </p:grpSpPr>
        <p:sp>
          <p:nvSpPr>
            <p:cNvPr id="51" name="AutoShape 6"/>
            <p:cNvSpPr/>
            <p:nvPr/>
          </p:nvSpPr>
          <p:spPr>
            <a:xfrm>
              <a:off x="1054080" y="4602960"/>
              <a:ext cx="1886040" cy="883080"/>
            </a:xfrm>
            <a:prstGeom prst="triangle">
              <a:avLst>
                <a:gd name="adj" fmla="val 50000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Text Box 7"/>
            <p:cNvSpPr/>
            <p:nvPr/>
          </p:nvSpPr>
          <p:spPr>
            <a:xfrm>
              <a:off x="685800" y="5290920"/>
              <a:ext cx="6109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Text Box 8"/>
            <p:cNvSpPr/>
            <p:nvPr/>
          </p:nvSpPr>
          <p:spPr>
            <a:xfrm>
              <a:off x="1727280" y="4191120"/>
              <a:ext cx="61092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Text Box 9"/>
            <p:cNvSpPr/>
            <p:nvPr/>
          </p:nvSpPr>
          <p:spPr>
            <a:xfrm>
              <a:off x="2817360" y="5295960"/>
              <a:ext cx="6112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Text Box 10"/>
            <p:cNvSpPr/>
            <p:nvPr/>
          </p:nvSpPr>
          <p:spPr>
            <a:xfrm>
              <a:off x="2316960" y="4647240"/>
              <a:ext cx="6109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Text Box 11"/>
            <p:cNvSpPr/>
            <p:nvPr/>
          </p:nvSpPr>
          <p:spPr>
            <a:xfrm>
              <a:off x="1650240" y="5395680"/>
              <a:ext cx="61092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Text Box 12"/>
            <p:cNvSpPr/>
            <p:nvPr/>
          </p:nvSpPr>
          <p:spPr>
            <a:xfrm>
              <a:off x="1187280" y="4694400"/>
              <a:ext cx="6109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360" y="366840"/>
            <a:ext cx="5257800" cy="25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EX:Solve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BC with C = 103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B = 28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and b = 26 feet. 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33840" y="4952880"/>
            <a:ext cx="640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Find the third angle, a, and c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0" name="Group 1"/>
          <p:cNvGrpSpPr/>
          <p:nvPr/>
        </p:nvGrpSpPr>
        <p:grpSpPr>
          <a:xfrm>
            <a:off x="609480" y="2895480"/>
            <a:ext cx="3200040" cy="2057040"/>
            <a:chOff x="609480" y="2895480"/>
            <a:chExt cx="3200040" cy="2057040"/>
          </a:xfrm>
        </p:grpSpPr>
        <p:sp>
          <p:nvSpPr>
            <p:cNvPr id="61" name="AutoShape 2"/>
            <p:cNvSpPr/>
            <p:nvPr/>
          </p:nvSpPr>
          <p:spPr>
            <a:xfrm>
              <a:off x="1039320" y="3378960"/>
              <a:ext cx="2200320" cy="1036800"/>
            </a:xfrm>
            <a:prstGeom prst="triangle">
              <a:avLst>
                <a:gd name="adj" fmla="val 50000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Text Box 3"/>
            <p:cNvSpPr/>
            <p:nvPr/>
          </p:nvSpPr>
          <p:spPr>
            <a:xfrm>
              <a:off x="609480" y="4186440"/>
              <a:ext cx="712800" cy="64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Text Box 4"/>
            <p:cNvSpPr/>
            <p:nvPr/>
          </p:nvSpPr>
          <p:spPr>
            <a:xfrm>
              <a:off x="1824480" y="2895480"/>
              <a:ext cx="7128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Text Box 5"/>
            <p:cNvSpPr/>
            <p:nvPr/>
          </p:nvSpPr>
          <p:spPr>
            <a:xfrm>
              <a:off x="3096360" y="4192560"/>
              <a:ext cx="713160" cy="64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Text Box 6"/>
            <p:cNvSpPr/>
            <p:nvPr/>
          </p:nvSpPr>
          <p:spPr>
            <a:xfrm>
              <a:off x="2512440" y="3430800"/>
              <a:ext cx="712800" cy="64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Text Box 7"/>
            <p:cNvSpPr/>
            <p:nvPr/>
          </p:nvSpPr>
          <p:spPr>
            <a:xfrm>
              <a:off x="1734840" y="4309560"/>
              <a:ext cx="7128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Text Box 8"/>
            <p:cNvSpPr/>
            <p:nvPr/>
          </p:nvSpPr>
          <p:spPr>
            <a:xfrm>
              <a:off x="1194480" y="3486240"/>
              <a:ext cx="712800" cy="64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Group 1"/>
          <p:cNvGrpSpPr/>
          <p:nvPr/>
        </p:nvGrpSpPr>
        <p:grpSpPr>
          <a:xfrm>
            <a:off x="3657600" y="2895480"/>
            <a:ext cx="3200040" cy="2166840"/>
            <a:chOff x="3657600" y="2895480"/>
            <a:chExt cx="3200040" cy="2166840"/>
          </a:xfrm>
        </p:grpSpPr>
        <p:sp>
          <p:nvSpPr>
            <p:cNvPr id="69" name="AutoShape 2"/>
            <p:cNvSpPr/>
            <p:nvPr/>
          </p:nvSpPr>
          <p:spPr>
            <a:xfrm>
              <a:off x="4087440" y="3378600"/>
              <a:ext cx="2200320" cy="1036800"/>
            </a:xfrm>
            <a:prstGeom prst="triangle">
              <a:avLst>
                <a:gd name="adj" fmla="val 50000"/>
              </a:avLst>
            </a:pr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Text Box 3"/>
            <p:cNvSpPr/>
            <p:nvPr/>
          </p:nvSpPr>
          <p:spPr>
            <a:xfrm>
              <a:off x="3657600" y="4186440"/>
              <a:ext cx="7128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Text Box 4"/>
            <p:cNvSpPr/>
            <p:nvPr/>
          </p:nvSpPr>
          <p:spPr>
            <a:xfrm>
              <a:off x="4872600" y="2895480"/>
              <a:ext cx="99396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28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Text Box 5"/>
            <p:cNvSpPr/>
            <p:nvPr/>
          </p:nvSpPr>
          <p:spPr>
            <a:xfrm>
              <a:off x="5687280" y="4419360"/>
              <a:ext cx="117036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103</a:t>
              </a:r>
              <a:r>
                <a:rPr b="0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Text Box 6"/>
            <p:cNvSpPr/>
            <p:nvPr/>
          </p:nvSpPr>
          <p:spPr>
            <a:xfrm>
              <a:off x="5560560" y="3430800"/>
              <a:ext cx="7128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Text Box 7"/>
            <p:cNvSpPr/>
            <p:nvPr/>
          </p:nvSpPr>
          <p:spPr>
            <a:xfrm>
              <a:off x="4495320" y="4309560"/>
              <a:ext cx="114264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26 ft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Text Box 8"/>
            <p:cNvSpPr/>
            <p:nvPr/>
          </p:nvSpPr>
          <p:spPr>
            <a:xfrm>
              <a:off x="4242600" y="3486240"/>
              <a:ext cx="712800" cy="64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  <a:ea typeface="Arial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366480"/>
            <a:ext cx="6096240" cy="27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ou try: Solve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BC with A = 107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B = 25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and b = 15 feet.  Find the third angle, a, and c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651528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Solve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BC with C = 122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a = 12 cm and c = 18 cm.  Find the two angles and b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3"/>
          <p:cNvSpPr/>
          <p:nvPr/>
        </p:nvSpPr>
        <p:spPr>
          <a:xfrm>
            <a:off x="380880" y="2895480"/>
            <a:ext cx="5715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omic Sans MS"/>
              </a:rPr>
              <a:t>The last 2 examples,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omic Sans MS"/>
              </a:rPr>
              <a:t>you were given 2 angles and a side; this time,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0c0"/>
                </a:solidFill>
                <a:latin typeface="Comic Sans MS"/>
              </a:rPr>
              <a:t>you are given 2 sides and an angle. </a:t>
            </a:r>
            <a:r>
              <a:rPr b="0" lang="en-US" sz="1800" spc="-1" strike="noStrike">
                <a:solidFill>
                  <a:srgbClr val="0070c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7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" dur="2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2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5981400" cy="27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You try: Solve 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ABC with C = 115</a:t>
            </a: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, a = 20 cm and c = 11 cm.  Find the two angles and b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304920" y="7543800"/>
            <a:ext cx="5867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W: P. 803#24-36, not 29, 30, 3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ue Tue 03/01/1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5T15:04:30Z</dcterms:created>
  <dc:creator>sraja</dc:creator>
  <dc:description/>
  <dc:language>en-US</dc:language>
  <cp:lastModifiedBy>sraja</cp:lastModifiedBy>
  <dcterms:modified xsi:type="dcterms:W3CDTF">2011-02-25T15:30:25Z</dcterms:modified>
  <cp:revision>5</cp:revision>
  <dc:subject/>
  <dc:title>Chapter 13   Section 5: The Law of Sines</dc:title>
</cp:coreProperties>
</file>